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8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86CA-093A-4E1E-9993-0E24FE46FBC7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İÇİN  KİTAP   OKUMALIY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İÇİN  KİTAP   OKUMALIY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110-CE3C-4749-8A4C-A723C86A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428-CA3C-4F0B-812D-297CEB3D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0A7-6E19-458D-9B52-53447145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82A-6333-47A5-BFF7-1A5EDB75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BF65-2049-4C2D-AB85-9C01C93D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759D-D06B-40C4-AA55-FC69DCD1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978E-DF26-4085-A32F-4A01FF5A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F64B-2BB4-4634-A63E-6E614E60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211C-0C15-47B8-9A11-35974B34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CF1C-ECBF-4356-9105-634EDF82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E297-2D42-4558-8FA1-D9FD0FF4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745-BAF3-4926-B93A-D166BE88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452F-DD14-479D-97FD-C4B73A84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40C9-5327-446C-A149-DEFB7173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41AF-1BB6-4D0C-AF14-86E4BD25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6316-F6D3-422D-83F4-EAA11FBB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9323-D747-4349-988A-24368145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F0F1-881A-4A5C-BF3E-48CAB308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AD6-891D-4D4F-880D-EC5A7E5A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A1C-E7F1-4723-A417-33569FBD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485-69EE-4BC9-9FC7-638E2A19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513-0FE7-4578-B5BB-FBCDC584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A9E-FAF1-45DF-BFD3-E2DA0998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FCB-0C7B-46D1-8650-B3A3E942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3535-24B9-4114-9FCF-9DFF57988D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7188-D3F9-4B88-97C9-ECC014D03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828800" y="2276640"/>
            <a:ext cx="7772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4876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00040" y="914040"/>
            <a:ext cx="5257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Kitaba   uzak  bir  toplum  fikirsiz  toplumdur . Fikirsiz   toplum ise  toplum  değil,  sadece  bir  yığındır. Çilesiz, kimliksiz  ve  başkaları   tarafından  kullanıla gelen  bir  topl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990720"/>
          <a:ext cx="29718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29718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685800"/>
            <a:ext cx="3733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en-US" sz="28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Kitap,  ömrü   uzatmanın   en iyi ilacıdır. Kim ki  kitap sever  ve okur, onun  yaşayışı  dolu, ve zengin  olur.  Zira   insanın  baş  düşmanı  boşluk ve  tembelliktir  ki  bu da stresleri   doğurur .  Streslerse  insanın ölüm alarmlarıdı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724280" y="304920"/>
          <a:ext cx="41706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04920"/>
                    <a:ext cx="41706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4" dur="3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191120" y="837720"/>
            <a:ext cx="4952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W.HOLMES  “Kitap okumakla   insan  zekası   gelişir” .   diy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James  HWELL:  “Dünyayı  yöneten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Lucida Sans"/>
                <a:ea typeface="Times New Roman"/>
              </a:rPr>
              <a:t>KALEM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Lucida Sans"/>
                <a:ea typeface="Times New Roman"/>
              </a:rPr>
              <a:t>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Lucida Sans"/>
                <a:ea typeface="Times New Roman"/>
              </a:rPr>
              <a:t>MÜREKKE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Lucida Sans"/>
                <a:ea typeface="Times New Roman"/>
              </a:rPr>
              <a:t>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Lucida Sans"/>
                <a:ea typeface="Times New Roman"/>
              </a:rPr>
              <a:t>VE   KAĞITTIR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”  diy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04920" y="457200"/>
          <a:ext cx="3483000" cy="34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348300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3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100"/>
                            </p:stCondLst>
                            <p:childTnLst>
                              <p:par>
                                <p:cTn id="17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3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3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100"/>
                            </p:stCondLst>
                            <p:childTnLst>
                              <p:par>
                                <p:cTn id="18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3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“</a:t>
            </a: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GENÇLİK, HEM  HASTALI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   </a:t>
            </a: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HEM  AÇLIK,  HEM  YOL, HEM YAĞM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   </a:t>
            </a: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HEM  DE  SOĞUK   İÇİNDİR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                                                 </a:t>
            </a: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Yüe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FAYDALI  KİTAP  İNSAN  İÇİN İYİ  BİR  ARKADAŞTIR.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3124080"/>
          <a:ext cx="3975120" cy="34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3975120" cy="34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8560" y="259920"/>
            <a:ext cx="734544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Lucida Sans"/>
              </a:rPr>
              <a:t>      </a:t>
            </a:r>
            <a:r>
              <a:rPr b="1" i="1" lang="en-US" sz="3200" spc="-1" strike="noStrike">
                <a:solidFill>
                  <a:srgbClr val="ff0033"/>
                </a:solidFill>
                <a:latin typeface="Lucida Sans"/>
              </a:rPr>
              <a:t>KİTAP OKUYAN İNSANLARIN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Lucida Sans"/>
              </a:rPr>
              <a:t>                </a:t>
            </a:r>
            <a:r>
              <a:rPr b="1" i="1" lang="en-US" sz="3200" spc="-1" strike="noStrike">
                <a:solidFill>
                  <a:srgbClr val="ff0033"/>
                </a:solidFill>
                <a:latin typeface="Lucida Sans"/>
              </a:rPr>
              <a:t>HUSUSIYETLERİ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Bahar  mevsiminin  ve  sabahların   canlılık  ve  yeniliğine  sahiptir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Ø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Kitaba  olan  açlıkları  bitmez  bunların, doyuma  doğru  yaptıkları  koşu  bir ömür  boyu  devam  e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Ø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Hayatta  hikmet  yüklü bir  bilginin  ışığıyla  dolaşırl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9280" y="533520"/>
          <a:ext cx="122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33520"/>
                    <a:ext cx="122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3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700"/>
                            </p:stCondLst>
                            <p:childTnLst>
                              <p:par>
                                <p:cTn id="21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3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3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3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3300"/>
                            </p:stCondLst>
                            <p:childTnLst>
                              <p:par>
                                <p:cTn id="223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3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400"/>
                            </p:stCondLst>
                            <p:childTnLst>
                              <p:par>
                                <p:cTn id="22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3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971440" y="0"/>
            <a:ext cx="6172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cc33"/>
                </a:solidFill>
                <a:latin typeface="Wingdings"/>
                <a:ea typeface="Wingdings"/>
              </a:rPr>
              <a:t></a:t>
            </a:r>
            <a:r>
              <a:rPr b="0" lang="tr-TR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33cc33"/>
                </a:solidFill>
                <a:latin typeface="Lucida Sans"/>
                <a:ea typeface="Times New Roman"/>
              </a:rPr>
              <a:t>    </a:t>
            </a:r>
            <a:r>
              <a:rPr b="1" i="1" lang="tr-TR" sz="2800" spc="-1" strike="noStrike">
                <a:solidFill>
                  <a:srgbClr val="33cc33"/>
                </a:solidFill>
                <a:latin typeface="Lucida Sans"/>
                <a:ea typeface="Times New Roman"/>
              </a:rPr>
              <a:t>KİTAP  YÜZLÜ BİR  GELECEK  IÇ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Lucida Sans"/>
                <a:ea typeface="Times New Roman"/>
              </a:rPr>
              <a:t>   “</a:t>
            </a:r>
            <a:r>
              <a:rPr b="1" i="1" lang="tr-TR" sz="2800" spc="-1" strike="noStrike">
                <a:solidFill>
                  <a:srgbClr val="00ffff"/>
                </a:solidFill>
                <a:latin typeface="Lucida Sans"/>
                <a:ea typeface="Times New Roman"/>
              </a:rPr>
              <a:t>Okumuyorsak, ihanet  </a:t>
            </a:r>
            <a:r>
              <a:rPr b="1" i="1" lang="tr-TR" sz="28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1" i="1" lang="tr-TR" sz="2800" spc="-1" strike="noStrike">
                <a:solidFill>
                  <a:srgbClr val="00ffff"/>
                </a:solidFill>
                <a:latin typeface="Lucida Sans"/>
                <a:ea typeface="Times New Roman"/>
              </a:rPr>
              <a:t>içindeyiz, demektir</a:t>
            </a:r>
            <a:r>
              <a:rPr b="1" i="1" lang="tr-TR" sz="28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1" i="1" lang="tr-TR" sz="2800" spc="-1" strike="noStrike">
                <a:solidFill>
                  <a:srgbClr val="00ffff"/>
                </a:solidFill>
                <a:latin typeface="Lucida Sans"/>
                <a:ea typeface="Times New Roman"/>
              </a:rPr>
              <a:t> </a:t>
            </a:r>
            <a:r>
              <a:rPr b="1" i="1" lang="tr-TR" sz="2800" spc="-1" strike="noStrike">
                <a:solidFill>
                  <a:srgbClr val="00ffff"/>
                </a:solidFill>
                <a:latin typeface="Lucida Sans"/>
                <a:ea typeface="Times New Roman"/>
              </a:rPr>
              <a:t>Kendimiz  boşlukta  bocalarken, </a:t>
            </a:r>
            <a:r>
              <a:rPr b="1" i="1" lang="tr-TR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i="1" lang="tr-TR" sz="2800" spc="-1" strike="noStrike">
                <a:solidFill>
                  <a:srgbClr val="00ffff"/>
                </a:solidFill>
                <a:latin typeface="Lucida Sans"/>
                <a:ea typeface="Times New Roman"/>
              </a:rPr>
              <a:t>başkasına  nasıl  itmina  üfleyebiliriz ve  menfi</a:t>
            </a:r>
            <a:r>
              <a:rPr b="1" i="1" lang="tr-TR" sz="28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i="1" lang="tr-TR" sz="2800" spc="-1" strike="noStrike">
                <a:solidFill>
                  <a:srgbClr val="00ffff"/>
                </a:solidFill>
                <a:latin typeface="Lucida Sans"/>
                <a:ea typeface="Times New Roman"/>
              </a:rPr>
              <a:t>akımlardan  nesilleri  nasıl  kurtarabiliriz...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Lucida Sans"/>
                <a:ea typeface="Times New Roman"/>
              </a:rPr>
              <a:t>                                                          </a:t>
            </a:r>
            <a:r>
              <a:rPr b="1" i="1" lang="tr-TR" sz="2800" spc="-1" strike="noStrike">
                <a:solidFill>
                  <a:srgbClr val="00ffff"/>
                </a:solidFill>
                <a:latin typeface="Lucida Sans"/>
                <a:ea typeface="Times New Roman"/>
              </a:rPr>
              <a:t>**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685800"/>
          <a:ext cx="32004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32004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3" dur="3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600"/>
                            </p:stCondLst>
                            <p:childTnLst>
                              <p:par>
                                <p:cTn id="245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7" dur="3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400"/>
                            </p:stCondLst>
                            <p:childTnLst>
                              <p:par>
                                <p:cTn id="249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1" dur="3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4800"/>
                            </p:stCondLst>
                            <p:childTnLst>
                              <p:par>
                                <p:cTn id="253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5" dur="3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1300"/>
                            </p:stCondLst>
                            <p:childTnLst>
                              <p:par>
                                <p:cTn id="257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9" dur="3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tr-T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Kitap, düşünce  bahçelerinden devşirilmiş  bir  buket  çiçek, DÜNLE YARIN ARASINDA çetin  bir yolun  yolcusu  olan  insanın önüne  serpilmiş  bir kucak  ışıktır. Kitabın sevdasıyla ömrüne ömür katmış bir  sevdalının  ifadesiyle , “Aşk  gibi  bir  seydir  O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800600" y="4038480"/>
          <a:ext cx="26971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4038480"/>
                    <a:ext cx="26971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590560" y="0"/>
            <a:ext cx="6373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tr-T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tr-TR" sz="2800" spc="-1" strike="noStrike">
                <a:solidFill>
                  <a:srgbClr val="ff0033"/>
                </a:solidFill>
                <a:latin typeface="Lucida Sans"/>
                <a:ea typeface="Times New Roman"/>
              </a:rPr>
              <a:t>Kitaptan  gayrı , vefalı  bır ses  duymadıgımız  zamanlar  içerisinde, bilinmez  bir  geleceğe  doğru  akıyoruz.Çaresizlikler  içerisinde  kıvranan  zamanlarda  çıkıp  gelen  güzel  insanlar  atlarına  binip  gitmiş  olsalar da, kapısı  her  zaman  bize  açık kitaba  koşuyoruz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0033"/>
                </a:solidFill>
                <a:latin typeface="Times New Roman"/>
              </a:rPr>
              <a:t>          </a:t>
            </a:r>
            <a:r>
              <a:rPr b="1" i="1" lang="tr-TR" sz="2800" spc="-1" strike="noStrike">
                <a:solidFill>
                  <a:srgbClr val="ff0033"/>
                </a:solidFill>
                <a:latin typeface="Lucida Sans"/>
                <a:ea typeface="Times New Roman"/>
              </a:rPr>
              <a:t>Dostlar  susmaya  devam  etseler de, bir  telefonluk  yakınlığa  inat  mesafeleri  uzatsalar da  sevdamızda  vefalı  olmalıyız</a:t>
            </a:r>
            <a:r>
              <a:rPr b="0" lang="tr-TR" sz="2800" spc="-1" strike="noStrike">
                <a:solidFill>
                  <a:srgbClr val="ff0033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990720"/>
          <a:ext cx="29242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29242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6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8800" y="2276640"/>
            <a:ext cx="7772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876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ffff"/>
                </a:solidFill>
                <a:latin typeface="Wingdings"/>
                <a:ea typeface="Wingdings"/>
              </a:rPr>
              <a:t></a:t>
            </a:r>
            <a:r>
              <a:rPr b="1" lang="tr-T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 </a:t>
            </a:r>
            <a:r>
              <a:rPr b="1" lang="tr-TR" sz="2800" spc="-1" strike="noStrike" u="sng">
                <a:solidFill>
                  <a:srgbClr val="00ffff"/>
                </a:solidFill>
                <a:uFillTx/>
                <a:latin typeface="Lucida Sans"/>
                <a:ea typeface="Times New Roman"/>
              </a:rPr>
              <a:t>HAYATINIZ   BİR   DUADIR</a:t>
            </a:r>
            <a:r>
              <a:rPr b="0" i="1" lang="tr-TR" sz="2800" spc="-1" strike="noStrike" u="sng">
                <a:solidFill>
                  <a:srgbClr val="00ffff"/>
                </a:solidFill>
                <a:uFillTx/>
                <a:latin typeface="Lucida Sans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cc66"/>
                </a:solidFill>
                <a:latin typeface="Lucida Sans"/>
              </a:rPr>
              <a:t>Nelere  sahip  olmak  istediğinizi     yaşadığınız    hayatla ortaya   koyarsınız.      </a:t>
            </a:r>
            <a:br>
              <a:rPr sz="2800"/>
            </a:br>
            <a:r>
              <a:rPr b="1" i="1" lang="tr-TR" sz="2800" spc="-1" strike="noStrike">
                <a:solidFill>
                  <a:srgbClr val="ffcc66"/>
                </a:solidFill>
                <a:latin typeface="Lucida Sans"/>
                <a:ea typeface="Times New Roman"/>
              </a:rPr>
              <a:t>Size   dilinizle  istediklerinizden  çok   haya tınınızla   istedikleriniz  verilir.Büyük  şeyler  istemek    kolaydır.Zor  olan    ha</a:t>
            </a:r>
            <a:r>
              <a:rPr b="1" i="1" lang="tr-TR" sz="3600" spc="-1" strike="noStrike">
                <a:solidFill>
                  <a:srgbClr val="ffcc66"/>
                </a:solidFill>
                <a:latin typeface="Times New Roman"/>
              </a:rPr>
              <a:t>yatı</a:t>
            </a:r>
            <a:r>
              <a:rPr b="1" i="1" lang="tr-TR" sz="2800" spc="-1" strike="noStrike">
                <a:solidFill>
                  <a:srgbClr val="ffcc66"/>
                </a:solidFill>
                <a:latin typeface="Lucida Sans"/>
                <a:ea typeface="Times New Roman"/>
              </a:rPr>
              <a:t>nızın   , istediğiniz  şeylere    şahitlik   yapmasıdır ;  dinlenecek  tekşey   meşru   hayatınızdır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206280"/>
          <a:ext cx="2286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2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5724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66"/>
                </a:solidFill>
                <a:uFillTx/>
                <a:latin typeface="Lucida Sans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0"/>
            <a:ext cx="4572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 Unicode MS"/>
                <a:ea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İki   kaşımızın    altındaki   gözlerimizle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ffffff"/>
                </a:solidFill>
                <a:latin typeface="Lucida Sans"/>
              </a:rPr>
              <a:t>  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</a:rPr>
              <a:t>g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örebilmem</a:t>
            </a:r>
            <a:r>
              <a:rPr b="1" i="1" lang="tr-T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z    için   ısık   </a:t>
            </a:r>
            <a:r>
              <a:rPr b="1" i="1" lang="tr-T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ş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arttır.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Kapkaranlık  odada  görme  gücünü  yitirmis  gözler  göremez.Buna  hayatımızın  dıs  ısıkları  diyelim.Güne</a:t>
            </a:r>
            <a:r>
              <a:rPr b="1" i="1" lang="tr-T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ş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,</a:t>
            </a:r>
            <a:r>
              <a:rPr b="1" i="1" lang="tr-T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sokak  lambaları,</a:t>
            </a:r>
            <a:r>
              <a:rPr b="1" i="1" lang="tr-T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ay  ısıgı   gibi...  Birde   iç  ısıklarımız  vardır.  Kalbimiz  bu  iç  ısıkları  ile  görür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67400" y="1295280"/>
            <a:ext cx="3466800" cy="4114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2438280"/>
            <a:ext cx="914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37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3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3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42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3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73392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İç  sıkıntımızın enerji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    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kaynaklar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İLİ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ZEK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TECRÜB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FAYDASIZ  ŞEYLERDEN   UZAK  DURMAK, GEREKSIZ  SÖZLER  SARFETMEMEK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168880" y="1295280"/>
          <a:ext cx="3975120" cy="34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1295280"/>
                    <a:ext cx="397512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743200" y="914400"/>
            <a:ext cx="6362640" cy="41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Ø 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ilgi  çekirdektir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. Çatlayıp  bilgi   vermesi için   uygun  bir  toprağa atılması  gereki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Ø 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prakta sizin  ISRAR  ve   ÇOBANINIZD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38080" y="609480"/>
          <a:ext cx="149220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09480"/>
                    <a:ext cx="149220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3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3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124080" y="18288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tr-T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Her  hareketinizle  hedefinize  layık  olmaya  çalısmalısınız, BİLGİYİ  birtaraftan  toplamanıza   birtaraftanda   netice  vermesine  sebep  olur . Çaba  ile   bütünleşmemiş  bilgi  SÜS  olarak  kalır 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157560" cy="3468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79600" y="3504960"/>
            <a:ext cx="76262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SİDDETLİ   YAĞMUR  ALTINDA  BİR  ARABANIN  SİLECEKLERİ  DEVAMLI  ÇALIŞIR. CAM  BUĞULANMIŞ İSE GÖRMEK  İÇİN   SİLMEK   GEREKIR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438280" y="380880"/>
          <a:ext cx="50292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880"/>
                    <a:ext cx="50292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3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263664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1933   yılında, Nazi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Almanya’sında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muhteşem  kitap  yakma  törenleri  yapıldı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Ancak   anlaşıldı   ki: KİTAPLARIN  YAKILDIĞI  YERDE, BİR  MÜDDET  SONRA İNSANLARDA  YAKILIR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419640" y="260280"/>
          <a:ext cx="297180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60280"/>
                    <a:ext cx="297180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626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tr-T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Meşhur  Çiçero,  köy  evi  Tuslum’a  çekildi. Bütün hayatıda  şu  cümle  ile özetleyiverdi: BİR  KİTAPLIĞIN VE  BİR  BAHÇEN VARSA  HİÇBİR  EKSİĞİN  YOK DEMEKTIR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23880" y="3581280"/>
          <a:ext cx="4583160" cy="29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81280"/>
                    <a:ext cx="458316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2T17:35:57Z</dcterms:created>
  <dc:creator>ism</dc:creator>
  <dc:description/>
  <dc:language>en-US</dc:language>
  <cp:lastModifiedBy>Kayatepe</cp:lastModifiedBy>
  <dcterms:modified xsi:type="dcterms:W3CDTF">2011-05-02T07:01:36Z</dcterms:modified>
  <cp:revision>44</cp:revision>
  <dc:subject/>
  <dc:title>PowerPoint Sunusu</dc:title>
</cp:coreProperties>
</file>